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2322-99E9-4C06-846D-12692AE9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B8A4-3950-48E0-A11C-BCB09974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8A4A-7092-45F4-8F20-6CC810BB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CBED-005B-45DC-A2F8-AC2AD24B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C77F-89E2-45E4-A8D3-ECCA8E0E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A096-066D-4D83-B039-C22EE5E6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BC75-5550-4BD5-89F0-5EC789B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6D0E-49E0-49AD-9097-DC0778F4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5583-3355-4DF2-BF1B-89D71A58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4A9-2DE5-4A20-AE7D-5B49B4F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0B21-C159-4112-BB94-9948842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7A38-C9C3-4198-A2DD-6A31AF54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ECB-DE91-40A1-A3E4-AF10FF6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5307-4A24-46E1-B917-B423DD17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E74-7A55-4CBD-AF93-467E23F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9B5B-2F4E-4F19-8350-59DE111C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C0B-0B90-40E4-9900-D1A14F79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DB09-7B8B-46CA-91E9-D3766E5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838F-073B-49A6-9C28-662F42D1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AC78-D535-4638-8206-148633E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D5A8-E376-4302-9005-C512C015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6F9B-EE66-4842-A7CB-4D3C9F3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44C5-65FE-414A-810F-0943D11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3FBB-B416-4312-8930-D573B9A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CD54-2635-4C97-8ECD-45E598559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6B3F-8690-44B3-A97A-5443051A0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18288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etrolul mi</a:t>
            </a:r>
            <a:r>
              <a:rPr b="0" lang="ro-RO" sz="5000" spc="-1" strike="noStrike">
                <a:solidFill>
                  <a:srgbClr val="ffffff"/>
                </a:solidFill>
                <a:latin typeface="Arial"/>
              </a:rPr>
              <a:t>şcă omenir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-  motoare term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04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a a X a A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533412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* Citiţi întrebările care vor urma, scrieţi răspunsurile voastre în coloanele corespunzătoare ale tabeluluicare urmează iar când terminaţi, faceţi o sinteză a acestora, apoi completaţi tabelul pe calculat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sunt combustibilii fos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ce sunt folosiţi combustibili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uteţi da exemple de motoare term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funcţionează motorul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depinde funcţionarea unui motor term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tipuri de motoare termice exist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cel mai mare defect al motoarelor term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38480" y="457200"/>
            <a:ext cx="1498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057400" cy="1147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498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ă rog să desenaţi pe foaie tabelul de mai 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sunt combustibilii fos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e sunt folosi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ţi combustibil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ul de la maşin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 funcţionează motor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e depinde funcţionarea motorulu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âte feluri exist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defecte au motoare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tinu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371600"/>
          <a:ext cx="8229600" cy="4114440"/>
        </p:xfrm>
        <a:graphic>
          <a:graphicData uri="http://schemas.openxmlformats.org/drawingml/2006/table">
            <a:tbl>
              <a:tblPr/>
              <a:tblGrid>
                <a:gridCol w="838080"/>
                <a:gridCol w="2514600"/>
                <a:gridCol w="2590920"/>
                <a:gridCol w="228600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57200" y="57913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 ultima coloană veţi răspunde la sfârşitul proiect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1:36:28Z</dcterms:created>
  <dc:creator>elev</dc:creator>
  <dc:description/>
  <dc:language>en-US</dc:language>
  <cp:lastModifiedBy>user</cp:lastModifiedBy>
  <dcterms:modified xsi:type="dcterms:W3CDTF">2010-06-03T07:41:06Z</dcterms:modified>
  <cp:revision>5</cp:revision>
  <dc:subject/>
  <dc:title>Petrolul mişcă omenirea</dc:title>
</cp:coreProperties>
</file>